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36576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BCB-D106-4464-907D-467F5DB7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264276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93C-5181-42FF-B09D-30502C41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DD2-6A0F-471D-B7BF-C1D732A5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90F-A3A0-4009-BDBA-893D9DC0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806-7517-4F51-83DA-342A719A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23C-AD6F-4164-AE11-80EFD834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D47-4109-449D-A4B2-3BDC4A99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3B2-2B96-4E42-AFFF-9AC18CBE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182160"/>
            <a:ext cx="329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996-3144-4329-8308-5B65E8A0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988-2C7D-4035-91E5-C1A4F795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C48-6122-4BEE-B7A9-84157131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271-080D-44B2-A2DC-EA1E24B1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2680" indent="-147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7520" indent="-117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22240" indent="-1173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4164120"/>
            <a:ext cx="85428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4164120"/>
            <a:ext cx="115920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4164120"/>
            <a:ext cx="85428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BCB39BB3-E6E7-4FA4-A79B-9C4B9349ADF5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1420560"/>
            <a:ext cx="3108240" cy="9795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2400" y="254160"/>
            <a:ext cx="33526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6720" y="2590560"/>
            <a:ext cx="2711520" cy="1168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>
              <a:spcBef>
                <a:spcPts val="125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5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5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21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160" y="1066320"/>
            <a:ext cx="1616040" cy="23367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073240" y="965160"/>
            <a:ext cx="14479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21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520" y="1066680"/>
            <a:ext cx="3200400" cy="1727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</cp:lastModifiedBy>
  <dcterms:modified xsi:type="dcterms:W3CDTF">2012-06-19T11:25:4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